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4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6270-0A7A-4A67-BDC9-9C43440A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2B20-E209-4E1A-8FC7-01AD0E20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AE0A-EFF4-4C55-B36B-62FDA104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A5C8-CB9E-4B92-8B83-38FABDF9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F04F-BEE4-48D3-9860-6C998889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CA0F-6A22-40DE-B845-FD229987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2B03-BE3C-4746-A7E2-6AA92B31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4CA6-BC86-4962-9BFA-85CF73CA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BCE8-FED5-4ED8-851A-55D9C775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5E4C-BCF7-414B-B4D6-87B9FA2B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2DB6-B0EB-4415-9C00-B8CFBD09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90FC-5FB4-44EE-8CD2-39102D10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4640-0ECE-4AE2-81F1-09FED506C651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 Narro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BC04-FC29-4A3B-B4FF-C6A4E963A86C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hyperlink" Target="http://images.google.com/imgres?imgurl=http://www.bestwindowinc.com/_img/products/vinyl_windows/hopper/hopper.jpg&amp;imgrefurl=http://www.bestwindowinc.com/products/vinyl_windows/hopper/hopper.htm&amp;h=214&amp;w=300&amp;sz=13&amp;hl=en&amp;start=6&amp;um=1&amp;tbnid=Ic4G20cpKapIlM:&amp;tbnh=83&amp;tbnw=116&amp;prev=/images%3Fq%3Dhopper%2Bwindows%26um%3D1%26hl%3Den%26safe%3Dactive%26sa%3DN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google.com/imgres?imgurl=http://www.jctonnotti.com/Assets/hopper_awning_1.jpg&amp;imgrefurl=http://www.jctonnotti.com/content/Windows/hopper_window.asp&amp;h=200&amp;w=300&amp;sz=31&amp;hl=en&amp;start=27&amp;um=1&amp;tbnid=oK1DtVrasDYI9M:&amp;tbnh=77&amp;tbnw=116&amp;prev=/images%3Fq%3Dhopper%2Bwindows%26start%3D20%26ndsp%3D20%26um%3D1%26hl%3Den%26safe%3Dactive%26sa%3DN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google.com/imgres?imgurl=http://www.betterwaywindows.com/images/Vinyl_Window/big/basement_windows_4-440.jpg&amp;imgrefurl=http://www.betterwaywindows.com/windows.php&amp;usg=__mu84QqOM8tn6BVnzEwrnwRJJY1g=&amp;h=318&amp;w=432&amp;sz=43&amp;hl=en&amp;start=10&amp;tbnid=yfXEbwRXyejBJM:&amp;tbnh=93&amp;tbnw=126&amp;prev=/images%3Fq%3Dhopper%2Bwindows%26gbv%3D2%26hl%3Den%26safe%3Dactive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images.google.com/imgres?imgurl=http://img2.timeinc.net/toh/i/a/buyersguide/windows-2-05.jpg&amp;imgrefurl=http://www.thisoldhouse.com/toh/article/0,,419997,00.html&amp;usg=__vFEMzsOaOh8Dntm95PnjLOh-ZN4=&amp;h=300&amp;w=300&amp;sz=20&amp;hl=en&amp;start=14&amp;tbnid=VOu8wIa6U8A8UM:&amp;tbnh=116&amp;tbnw=116&amp;prev=/images%3Fq%3Dhopper%2Bwindows%26gbv%3D2%26hl%3Den%26safe%3Dactive" TargetMode="External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com/imgres?imgurl=http://www.sturdi-built.com/images/jalwindow.jpg&amp;imgrefurl=http://www.sturdi-built.com/greenhouse-options/greenhouse-jalousie-windows.php&amp;h=243&amp;w=320&amp;sz=17&amp;hl=en&amp;start=2&amp;um=1&amp;tbnid=VJxU-YdqXlXYWM:&amp;tbnh=90&amp;tbnw=118&amp;prev=/images%3Fq%3Djalousie%2Bwindows%26um%3D1%26hl%3Den%26safe%3Dactive%26sa%3DG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hyperlink" Target="http://images.google.com/imgres?imgurl=http://www.infolink.com.au/odin/images/205965/Glass-Louvre-Windows-by-Safetyline-Jalousie-205965.jpg&amp;imgrefurl=http://www.infolink.com.au/c/Safetyline-Jalousie/Glass-Louvre-Windows-by-Safetyline-Jalousie-p15430&amp;usg=__o7KIofnJferiCUTF55NmpIgmduk=&amp;h=255&amp;w=255&amp;sz=20&amp;hl=en&amp;start=13&amp;tbnid=ZKbfc_RkjFjC6M:&amp;tbnh=111&amp;tbnw=111&amp;prev=/images%3Fq%3Djalousie%2Bwindows%26gbv%3D2%26hl%3Den%26safe%3Dactive%26sa%3DG" TargetMode="External"/><Relationship Id="rId6" Type="http://schemas.openxmlformats.org/officeDocument/2006/relationships/image" Target="../media/image18.jpeg"/><Relationship Id="rId7" Type="http://schemas.openxmlformats.org/officeDocument/2006/relationships/hyperlink" Target="http://images.google.com/imgres?imgurl=http://lh6.ggpht.com/_gj6xxzAZYnA/Sb3TTiJWYkI/AAAAAAAAAKQ/8XbhokCpDEk/HolidayHouse4Sales_74.jpg&amp;imgrefurl=http://picasaweb.google.com/lh/photo/wbSi9LNWw-q4wmTDuj-a2w&amp;usg=__wPaKUX2kYJ83kwDYAvD00k3vCTo=&amp;h=599&amp;w=899&amp;sz=12&amp;hl=en&amp;start=30&amp;tbnid=IZ7V9n1fd4__qM:&amp;tbnh=97&amp;tbnw=146&amp;prev=/images%3Fq%3Djalousie%2Bwindows%26gbv%3D2%26ndsp%3D18%26hl%3Den%26safe%3Dactive%26sa%3DN%26start%3D18" TargetMode="External"/><Relationship Id="rId8" Type="http://schemas.openxmlformats.org/officeDocument/2006/relationships/image" Target="../media/image19.jpeg"/><Relationship Id="rId9" Type="http://schemas.openxmlformats.org/officeDocument/2006/relationships/hyperlink" Target="http://images.google.com/imgres?imgurl=http://thevap.com/blog/wp-content/uploads/2006/11/pict0070d.jpg&amp;imgrefurl=http://thevap.com/blog/%3Fp%3D236&amp;usg=__TmqJB5w1cg8CVgOTtHDY41vJIK8=&amp;h=300&amp;w=400&amp;sz=42&amp;hl=en&amp;start=44&amp;tbnid=HXMkZ2mtZYw0NM:&amp;tbnh=93&amp;tbnw=124&amp;prev=/images%3Fq%3Djalousie%2Bwindows%26gbv%3D2%26ndsp%3D18%26hl%3Den%26safe%3Dactive%26sa%3DN%26start%3D36" TargetMode="External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countrycurtains.com/shopping/product/detailmain.jsp?itemID=2579&amp;itemType=PRODUCT&amp;iMainCat=104&amp;iSubCat=180&amp;iProductID=2579" TargetMode="External"/><Relationship Id="rId3" Type="http://schemas.openxmlformats.org/officeDocument/2006/relationships/image" Target="../media/image28.jpeg"/><Relationship Id="rId4" Type="http://schemas.openxmlformats.org/officeDocument/2006/relationships/hyperlink" Target="http://www.countrycurtains.com/shopping/product/detailmain.jsp?itemID=2450&amp;itemType=PRODUCT&amp;iMainCat=104&amp;iSubCat=180&amp;iProductID=2450" TargetMode="External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lindsanddrapery.com/window-treatments/discount-draperies-panels/98.cfm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shadesshuttersblinds.com/images/Z-FrameShutter1.jpg" TargetMode="External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www.countrycurtains.com/jump.jsp?itemID=2915&amp;itemType=PRODUCT" TargetMode="External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interiormall.com/cat/display.asp?c1=Window+Treatments&amp;c2=Fabric+Cornices" TargetMode="External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interiormall.com/cat/sample.asp?ID=F515-austrian-swag-cascades" TargetMode="External"/><Relationship Id="rId2" Type="http://schemas.openxmlformats.org/officeDocument/2006/relationships/image" Target="../media/image42.jpeg"/><Relationship Id="rId3" Type="http://schemas.openxmlformats.org/officeDocument/2006/relationships/hyperlink" Target="http://www.interiormall.com/cat/sample.asp?ID=F515-casual-swag" TargetMode="External"/><Relationship Id="rId4" Type="http://schemas.openxmlformats.org/officeDocument/2006/relationships/image" Target="../media/image43.jpeg"/><Relationship Id="rId5" Type="http://schemas.openxmlformats.org/officeDocument/2006/relationships/hyperlink" Target="http://www.interiormall.com/cat/sample.asp?ID=F515-drapery-swag" TargetMode="External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.03 Windows and Window Treat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183E-5707-424F-AD57-03464B02DBB2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Rectangle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Rectangle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EA4E-87F4-49D3-9429-57414FCFE0E9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6" name="Picture 8" descr="ABCD"/>
          <p:cNvPicPr/>
          <p:nvPr/>
        </p:nvPicPr>
        <p:blipFill>
          <a:blip r:embed="rId1"/>
          <a:stretch/>
        </p:blipFill>
        <p:spPr>
          <a:xfrm>
            <a:off x="6781680" y="4495680"/>
            <a:ext cx="13716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ment Windo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2A40-99E0-4D3F-A5D8-257E5A5263BA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6AF3-93EB-4D47-9702-5195A7E9C81D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6" name="Picture 5" descr="Win-Dor replacement windows and doors - Casement Windows"/>
          <p:cNvPicPr/>
          <p:nvPr/>
        </p:nvPicPr>
        <p:blipFill>
          <a:blip r:embed="rId2"/>
          <a:stretch/>
        </p:blipFill>
        <p:spPr>
          <a:xfrm>
            <a:off x="2209680" y="2057400"/>
            <a:ext cx="428652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wning Wind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7818-2244-47DF-9AB6-04D7988CA4B3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8BB1-3EBC-4B6C-ABE8-5E20307ACDFF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1" name="Picture 7" descr="BlobServer?blobcol=urldata&amp;blobtable=MungoBlobs&amp;blobkey=id&amp;blobwhere=1197520678820&amp;blobheader=image%2Fjpeg"/>
          <p:cNvPicPr/>
          <p:nvPr/>
        </p:nvPicPr>
        <p:blipFill>
          <a:blip r:embed="rId1"/>
          <a:stretch/>
        </p:blipFill>
        <p:spPr>
          <a:xfrm>
            <a:off x="5334120" y="1371600"/>
            <a:ext cx="3581280" cy="3009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BlobServer?blobcol=urldata&amp;blobtable=MungoBlobs&amp;blobkey=id&amp;blobwhere=1197520678319&amp;blobheader=image%2Fjpeg&amp;blobnocache=false"/>
          <p:cNvPicPr/>
          <p:nvPr/>
        </p:nvPicPr>
        <p:blipFill>
          <a:blip r:embed="rId2"/>
          <a:stretch/>
        </p:blipFill>
        <p:spPr>
          <a:xfrm>
            <a:off x="1066680" y="1828800"/>
            <a:ext cx="355284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inging windows (con’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Hopp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Hinged at the bottom to allow the top of the sash to swing in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Jalousi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series of horizontal adjustable glass slats fastened into a metal frame. (think of mini-blinds made of glass) Open and close with a crank to allow ventilation. Screens &amp; storms windows are needed for protection from insects or wea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B0E2-D7F6-4513-92BE-CA93B2976E50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7471-1627-422E-A30D-436342B350E8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pper Wind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1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6952-EDBE-4DCA-9B1C-A39BBE3B0AE1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666F-8448-43BF-ABAD-80F6B997A404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3" name="Picture 11" descr="Hopper Window"/>
          <p:cNvPicPr/>
          <p:nvPr/>
        </p:nvPicPr>
        <p:blipFill>
          <a:blip r:embed="rId2"/>
          <a:stretch/>
        </p:blipFill>
        <p:spPr>
          <a:xfrm>
            <a:off x="1447920" y="2438280"/>
            <a:ext cx="1190520" cy="933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hopp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3880" y="4572000"/>
            <a:ext cx="1105200" cy="790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hopper_awning_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33920" y="2362320"/>
            <a:ext cx="1447560" cy="1266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9" descr="basement_windows_4-44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95880" y="2209680"/>
            <a:ext cx="1200240" cy="885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1" descr="windows-2-05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419720" y="434340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alousie Wind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1ACA-82C5-4695-89A5-EF0FF51E7A52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9BBF-3872-4204-927D-3CC450D3C74C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3" name="Picture 5" descr="jalwindo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76520" y="2133720"/>
            <a:ext cx="1447560" cy="1904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ewtype04"/>
          <p:cNvPicPr/>
          <p:nvPr/>
        </p:nvPicPr>
        <p:blipFill>
          <a:blip r:embed="rId4"/>
          <a:stretch/>
        </p:blipFill>
        <p:spPr>
          <a:xfrm>
            <a:off x="7391520" y="3048120"/>
            <a:ext cx="1143000" cy="1733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Glass-Louvre-Windows-by-Safetyline-Jalousie-20596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828800" y="4572000"/>
            <a:ext cx="1057320" cy="1057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HolidayHouse4Sales_7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267080" y="2286000"/>
            <a:ext cx="1390680" cy="923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pict0070d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419720" y="4114800"/>
            <a:ext cx="118116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BD05-BEE5-457F-ABD7-755C50B7EC7C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3D4C-339F-4A4D-87BE-8EB44BC60C9B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3" name="Picture 5" descr="img_7152"/>
          <p:cNvPicPr/>
          <p:nvPr/>
        </p:nvPicPr>
        <p:blipFill>
          <a:blip r:embed="rId2"/>
          <a:stretch/>
        </p:blipFill>
        <p:spPr>
          <a:xfrm>
            <a:off x="2819520" y="838080"/>
            <a:ext cx="414324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xed Windo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o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mit light and provide a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rectangular, oval, half-round, round, arc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ass blocks provide light while providing priv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5B98-F24B-4841-A4C3-B6EDA7F59087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1060-66E1-40C4-9860-07ABD4FA2D70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xed Windo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2268-B6AE-46E6-85E2-A588FEEA90F3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B447-B24C-44E8-8C7E-7481EA312060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4" name="Picture 5" descr="fixed_01"/>
          <p:cNvPicPr/>
          <p:nvPr/>
        </p:nvPicPr>
        <p:blipFill>
          <a:blip r:embed="rId2"/>
          <a:stretch/>
        </p:blipFill>
        <p:spPr>
          <a:xfrm>
            <a:off x="2590920" y="2590920"/>
            <a:ext cx="48387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bination Windo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ed windows used with other types of window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: hopper window used above a fix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ements used on either side o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 fixed wind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AY window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combination window that has large fixed windows and double-hung windows on either s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2D21-36F8-4224-9A2B-394AC8326EC4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6970-B130-4C7A-8BD0-D96DBA102FE9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y Wind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11CE-0543-4A13-84C3-D1017CB5A037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3178-BCC8-4733-86AE-CA60A9B7D411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5" name="Picture 5" descr="Bay Window"/>
          <p:cNvPicPr/>
          <p:nvPr/>
        </p:nvPicPr>
        <p:blipFill>
          <a:blip r:embed="rId2"/>
          <a:stretch/>
        </p:blipFill>
        <p:spPr>
          <a:xfrm>
            <a:off x="1828800" y="26668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BlobServer?blobcol=urldata&amp;blobtable=MungoBlobs&amp;blobkey=id&amp;blobwhere=1197520678757&amp;blobheader=image%2Fjpeg"/>
          <p:cNvPicPr/>
          <p:nvPr/>
        </p:nvPicPr>
        <p:blipFill>
          <a:blip r:embed="rId3"/>
          <a:stretch/>
        </p:blipFill>
        <p:spPr>
          <a:xfrm>
            <a:off x="4343400" y="2286000"/>
            <a:ext cx="35812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s of window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natural light, air circulation, vi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ve as focal point of room or 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help conserve energy and prevent heating and cooling l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made of high-impact glass to prevent breakage during st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FB15-CD0E-498C-A081-65BD180E6B0F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1DD6-1D62-48E3-BF34-6F9C3C9F7B2D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kylights &amp; Clere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let light into areas that get little or no light…usually do not o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ylights are located in ceiling or ro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restory windows are located high on wa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16CD-25E3-48A8-8EAA-4F8022DD4F94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5AA9-B0BB-41C2-A8C1-80BF6686F1D9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kylights &amp; Clere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5D20-9A3E-4605-8A3F-EB012D07986A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7C43-3D55-40B6-B19D-C735893AAF1C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7" name="Picture 5" descr="Skylight"/>
          <p:cNvPicPr/>
          <p:nvPr/>
        </p:nvPicPr>
        <p:blipFill>
          <a:blip r:embed="rId2"/>
          <a:stretch/>
        </p:blipFill>
        <p:spPr>
          <a:xfrm>
            <a:off x="1219320" y="2057400"/>
            <a:ext cx="2514600" cy="3581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Clerestory Windows"/>
          <p:cNvPicPr/>
          <p:nvPr/>
        </p:nvPicPr>
        <p:blipFill>
          <a:blip r:embed="rId3"/>
          <a:stretch/>
        </p:blipFill>
        <p:spPr>
          <a:xfrm>
            <a:off x="6248520" y="1981080"/>
            <a:ext cx="1904760" cy="1781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saltbox_celestory_windows"/>
          <p:cNvPicPr/>
          <p:nvPr/>
        </p:nvPicPr>
        <p:blipFill>
          <a:blip r:embed="rId4"/>
          <a:stretch/>
        </p:blipFill>
        <p:spPr>
          <a:xfrm>
            <a:off x="3962520" y="3581280"/>
            <a:ext cx="4400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ta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t fabric panels constructed of unlined fabric or lace. May be sheer to medium we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wide variety of colors, patterns, &amp; tex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stay closed or opened on a ro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B4FF-EB47-487B-9841-71E2C5AAAB0D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7698-37B3-4FA4-B9BC-5BFBF5047F8E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curta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0724-7077-400F-8BF1-5121569DDAF7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564D-1AA6-4F82-AACB-2A10EC52053F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0" name="Picture 5" descr="010380266_th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1981080"/>
            <a:ext cx="2895480" cy="3581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0103H40B_th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600200" y="1981080"/>
            <a:ext cx="2743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pe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lined with another fabr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ing adds body, increases insulation, helps drapes hang better, blocks sunlight and helps to avoid fading of drapery fabr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Usually more formal and will extend to the flo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409E-52AF-45ED-B00C-645E4970C4BE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34B4-87F3-4B1F-92BD-56FC816D1A67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7" name="Picture 3" descr="Click image to learn more about pinch pleat draper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04920"/>
            <a:ext cx="2209680" cy="19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ad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very plain or orn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fit regular windows as well as oval or arched windows. Can also fit skylight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0E89-981C-4566-AF68-8D555C4A7616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32E3-EEEF-4924-A9F9-AB637BEB2798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ade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oller shad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mounted at top of window, made of cloth or vinyl, can have fabric or wallpaper laminated on them for decorative effect. Can be light-filtering, room-darkening, or heat resis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A31D-EA1A-4EAA-994E-0240B9A2533C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26E6-C73C-49CB-9016-B90DC5F1763C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8" name="Picture 9" descr="image_1144686286"/>
          <p:cNvPicPr/>
          <p:nvPr/>
        </p:nvPicPr>
        <p:blipFill>
          <a:blip r:embed="rId1"/>
          <a:stretch/>
        </p:blipFill>
        <p:spPr>
          <a:xfrm>
            <a:off x="5638680" y="4724280"/>
            <a:ext cx="2667240" cy="19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man Sh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es flat against the window when down and is drawn up into a series of horizontal fo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4610-077C-42A1-8203-635F6C0F01C7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0AB6-6872-4A95-9160-C135945675C5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059280" y="1654200"/>
          <a:ext cx="3025440" cy="3549600"/>
        </p:xfrm>
        <a:graphic>
          <a:graphicData uri="http://schemas.openxmlformats.org/drawingml/2006/table">
            <a:tbl>
              <a:tblPr/>
              <a:tblGrid>
                <a:gridCol w="30254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2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3068640" y="2171880"/>
          <a:ext cx="3033720" cy="3022560"/>
        </p:xfrm>
        <a:graphic>
          <a:graphicData uri="http://schemas.openxmlformats.org/drawingml/2006/table">
            <a:tbl>
              <a:tblPr/>
              <a:tblGrid>
                <a:gridCol w="2817720"/>
                <a:gridCol w="216000"/>
              </a:tblGrid>
              <a:tr h="30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oman Shad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078000" y="2181240"/>
          <a:ext cx="2833920" cy="3032280"/>
        </p:xfrm>
        <a:graphic>
          <a:graphicData uri="http://schemas.openxmlformats.org/drawingml/2006/table">
            <a:tbl>
              <a:tblPr/>
              <a:tblGrid>
                <a:gridCol w="2833920"/>
              </a:tblGrid>
              <a:tr h="2511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5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                                                             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7" name="Picture 10" descr="image_1144685664"/>
          <p:cNvPicPr/>
          <p:nvPr/>
        </p:nvPicPr>
        <p:blipFill>
          <a:blip r:embed="rId1"/>
          <a:stretch/>
        </p:blipFill>
        <p:spPr>
          <a:xfrm>
            <a:off x="4038480" y="3657600"/>
            <a:ext cx="2571840" cy="23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ut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ginally designed to keep out heat &amp; 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well with traditional dec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cover part or all of the window, usually made of wood, are hinged together like a folding do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D9E0-1496-41BD-B4D7-408076E9349A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00ED-BDB0-417C-BC36-B4B53983FBD3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ut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819A-BFB2-4E54-A472-F18F14962264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C310-1636-4B21-81BE-2843C59498A6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7" name="Picture 6" descr="shutt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981080"/>
            <a:ext cx="2895480" cy="3581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Horizon Shutters - plantation window shutters"/>
          <p:cNvPicPr/>
          <p:nvPr/>
        </p:nvPicPr>
        <p:blipFill>
          <a:blip r:embed="rId3"/>
          <a:stretch/>
        </p:blipFill>
        <p:spPr>
          <a:xfrm>
            <a:off x="5105520" y="1981080"/>
            <a:ext cx="3524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ts of the wind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me: perimeter of window that fits into w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sh: holds the glass &amp; swings or slides open. May be divided into small sections  by wooden dividers called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unt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ll: bottom of the fr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ron: horizontal board underneath a window below the si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8A09-CA60-45B0-AA1A-3C2462F113E9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6136-73E2-4396-99A0-6D76EF28987B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ind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de of a series of evenly spaced slats that can be opened or closed by cord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llow privacy or let in as much light as needed but tedious to cle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rizontal blinds (Venetian) have horizontal slats, usually wind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tical blinds have vertical slats (patio doo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CFE7-9945-49DE-81C0-813217A7E9FA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92C2-90B3-4DA0-9708-81F6356EC271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i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9979-9272-4825-A8D4-F84E901B5537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C8B9-03DF-478E-A7B5-63FF426E4EF4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8" name="Picture 6" descr="Vertical Blinds, Vertical Window Blinds at Blindsgalore"/>
          <p:cNvPicPr/>
          <p:nvPr/>
        </p:nvPicPr>
        <p:blipFill>
          <a:blip r:embed="rId1"/>
          <a:stretch/>
        </p:blipFill>
        <p:spPr>
          <a:xfrm>
            <a:off x="1523880" y="1676520"/>
            <a:ext cx="4953240" cy="16002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Mini Blinds and Micro Blinds at Blindsgalore"/>
          <p:cNvPicPr/>
          <p:nvPr/>
        </p:nvPicPr>
        <p:blipFill>
          <a:blip r:embed="rId2"/>
          <a:stretch/>
        </p:blipFill>
        <p:spPr>
          <a:xfrm>
            <a:off x="1676520" y="4114800"/>
            <a:ext cx="45910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corative top treat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decorative purposes and to hide drapery/curtain hardw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lence: short length of fabric placed across the top of window. Can use alone or with other treat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is gathered for a full look and matches the other treat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5DC4-257E-4D1C-BFAB-0F946FED7384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8586-6428-4796-823F-63DEA02EDFFA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C508-07BD-4DB2-924B-A23599D5B6B2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3A74-FDA0-425C-AA05-42FF5079BBFD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9" name="Picture 6" descr="TOP TREATMENTS, VALANCES &amp; WINDOW TOPPERS"/>
          <p:cNvPicPr/>
          <p:nvPr/>
        </p:nvPicPr>
        <p:blipFill>
          <a:blip r:embed="rId1"/>
          <a:stretch/>
        </p:blipFill>
        <p:spPr>
          <a:xfrm>
            <a:off x="1295280" y="1752480"/>
            <a:ext cx="2828880" cy="3038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Roosters Layered Valance over tier curtain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52880" y="1905120"/>
            <a:ext cx="28288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nic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e purpose as valance but has more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made of wood, painted or sta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padded and covered with fabr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C06A-39DA-45E6-BDF4-48605C54AB76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3490-E64D-444C-956B-190D3EC475F4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n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BD8B-D16D-47D3-95D2-ECEF255872AD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E94E-BE54-4327-9AB2-5C568E8FF47E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0" name="Picture 8" descr="Wood Cornice Boards, Upholstered Cornices, Fabric Cornic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133720"/>
            <a:ext cx="2057400" cy="1904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2" descr="Fabric Cornice Board 1"/>
          <p:cNvPicPr/>
          <p:nvPr/>
        </p:nvPicPr>
        <p:blipFill>
          <a:blip r:embed="rId3"/>
          <a:stretch/>
        </p:blipFill>
        <p:spPr>
          <a:xfrm>
            <a:off x="5105520" y="1905120"/>
            <a:ext cx="2895480" cy="20574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4" descr="Cornice Picture 1"/>
          <p:cNvPicPr/>
          <p:nvPr/>
        </p:nvPicPr>
        <p:blipFill>
          <a:blip r:embed="rId4"/>
          <a:stretch/>
        </p:blipFill>
        <p:spPr>
          <a:xfrm>
            <a:off x="1981080" y="4572000"/>
            <a:ext cx="2743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a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ece of fabric that is draped gracefully across the top of window. Attached to both sides of window frame at 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F01F-1409-42A9-B4E0-42CBDE2596B9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135E-8325-468C-A3F8-B76150E7F2DE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a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F9BC-8677-4A67-B64B-D2946F2BB53C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E47A-4924-4B20-820F-67D68E03DBE0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2" name="Picture 6" descr="Drapery Styles AUSTRIAN SWAG CASCADES In Sto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981080"/>
            <a:ext cx="2057400" cy="31435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Drapery Styles CASUAL SWAG In Stock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9880" y="1981080"/>
            <a:ext cx="1905120" cy="3219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0" descr="Drapery Styles DRAPERY SWAG In Stoc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5880" y="2057400"/>
            <a:ext cx="1905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ags (con’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07CA-6E7E-480E-80E2-DF07778E529C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51A5-1732-40A1-B32E-43434262EBB7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9" name="Picture 6" descr="Drapery Styles EMPIRE POLE SWAG In Stock"/>
          <p:cNvPicPr/>
          <p:nvPr/>
        </p:nvPicPr>
        <p:blipFill>
          <a:blip r:embed="rId1"/>
          <a:stretch/>
        </p:blipFill>
        <p:spPr>
          <a:xfrm>
            <a:off x="1143000" y="2286000"/>
            <a:ext cx="2057400" cy="28954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Drapery Styles EUROPEAN SWAG CASCADES In Stock"/>
          <p:cNvPicPr/>
          <p:nvPr/>
        </p:nvPicPr>
        <p:blipFill>
          <a:blip r:embed="rId2"/>
          <a:stretch/>
        </p:blipFill>
        <p:spPr>
          <a:xfrm>
            <a:off x="3657600" y="2209680"/>
            <a:ext cx="1905120" cy="29718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0" descr="Drapery Styles Open Swag In Stock"/>
          <p:cNvPicPr/>
          <p:nvPr/>
        </p:nvPicPr>
        <p:blipFill>
          <a:blip r:embed="rId3"/>
          <a:stretch/>
        </p:blipFill>
        <p:spPr>
          <a:xfrm>
            <a:off x="6172200" y="2209680"/>
            <a:ext cx="1905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using Decisions   pages 379-38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mes and Interiors  pages 563-56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countrycurtains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domestications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fabricworkroom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budgetblinds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hgtv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hunterdouglas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bestwindowtreatments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pyright ©2007, ABCD, All rights reser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F486-7291-41F2-A74D-F418A06A6B17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9259-BC86-4CA3-8EB1-10B3CB44B13F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8855-7384-42FC-A6DC-A23EC660F606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5585-0040-416D-9855-9FE6088A9978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1" name="Picture 5" descr="147"/>
          <p:cNvPicPr/>
          <p:nvPr/>
        </p:nvPicPr>
        <p:blipFill>
          <a:blip r:embed="rId1"/>
          <a:stretch/>
        </p:blipFill>
        <p:spPr>
          <a:xfrm>
            <a:off x="3124080" y="2133720"/>
            <a:ext cx="40388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Windo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i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in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other types are based on these thre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0471-32B3-47D4-868A-DA0546ABC0AF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38F1-E3CC-43C8-BABC-55F95D58B8A9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ing windo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e either vertically or horizont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ouble-hung windo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most common window, opens vertically from top or bottom. Provides an opening for half the size of wind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Horizontal-slid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has 2-3 sash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sash windows has 1 sash that slides and the other stays fix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A3E5-5819-4AC4-AA4A-59B9732D52C5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8414-F75D-4332-AAF0-248A0D90810F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uble Hung Wind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FB59-2400-4942-8BB4-3BDC0D374903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2361-A6B6-4E3B-83F9-A86FEC85D2CD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7" name="Picture 7" descr="Vinyl Double-Hung Windows viewed from a porch"/>
          <p:cNvPicPr/>
          <p:nvPr/>
        </p:nvPicPr>
        <p:blipFill>
          <a:blip r:embed="rId2"/>
          <a:stretch/>
        </p:blipFill>
        <p:spPr>
          <a:xfrm>
            <a:off x="1752480" y="2362320"/>
            <a:ext cx="2514600" cy="3219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dh_01"/>
          <p:cNvPicPr/>
          <p:nvPr/>
        </p:nvPicPr>
        <p:blipFill>
          <a:blip r:embed="rId3"/>
          <a:stretch/>
        </p:blipFill>
        <p:spPr>
          <a:xfrm>
            <a:off x="4572000" y="2209680"/>
            <a:ext cx="4114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rizontal Sli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B18F-04A6-4A21-84BF-D60BF10594BE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7D40-77D7-4171-BAEE-5FAADD0849FE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4" name="Picture 5" descr="img_p_hs"/>
          <p:cNvPicPr/>
          <p:nvPr/>
        </p:nvPicPr>
        <p:blipFill>
          <a:blip r:embed="rId2"/>
          <a:stretch/>
        </p:blipFill>
        <p:spPr>
          <a:xfrm>
            <a:off x="1295280" y="2743200"/>
            <a:ext cx="2514600" cy="2171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Win-Dor replacement windows and doors - Horizontal Sliding Windows"/>
          <p:cNvPicPr/>
          <p:nvPr/>
        </p:nvPicPr>
        <p:blipFill>
          <a:blip r:embed="rId3"/>
          <a:stretch/>
        </p:blipFill>
        <p:spPr>
          <a:xfrm>
            <a:off x="4267080" y="2286000"/>
            <a:ext cx="42865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inging windo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ase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open and close with a crank, swing outward. Usually the entire window area can be opened for ventil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wn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swing outward from the bottom and are hinged at the top. Provides protection from the rain. Usually found in basement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5DCE-EAED-48EA-B378-27BF9ADC9359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E50D-B6A9-4658-A74E-377F22AC4FC3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.brooks</cp:lastModifiedBy>
  <dcterms:modified xsi:type="dcterms:W3CDTF">2010-10-07T13:27:37Z</dcterms:modified>
  <cp:revision>20</cp:revision>
  <dc:subject/>
  <dc:title>PowerPoint Presentation</dc:title>
</cp:coreProperties>
</file>